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788-E2EB-43E5-ACC0-2BB33E04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998-7B14-44B1-916A-825B40E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91614-E9C9-4853-B6BA-A29A8763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246FA-165C-46AD-BB96-C379E4A6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C23A6-4D4F-4399-9C62-DE1EB2D2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D47DB-6EDC-4AAA-9210-38FA840A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E8702-BD77-493B-9060-5679830D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9DE5-B6F1-47CA-AC03-66EF0FB9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FEDB8-C9BB-4C4A-AF87-C09DC82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B1002-B67C-40FA-A036-E5864F29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42E3-D750-42AB-9103-BE9503A5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372BA-82BE-4997-8257-23E9851D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A5A-6686-4886-8192-4EB9241B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F4F09-C8CC-472E-B739-D7C6F2A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46EAB-2637-4784-A316-016F08EA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0D7D3-631D-46D3-8C8F-D50615A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31224-BB2F-467A-802F-8400E06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D19E4-3DDD-42C3-8537-97D9D6A1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D51DF-528D-48E8-A350-65E47D7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F7980-7CAF-4AA4-82F5-372B4F6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0817-096B-446F-A4D3-2F6F90C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C2D81-905D-48BB-B441-E9E119CC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FEC2B-C8BF-4A96-971D-4A2298A0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1D8-9746-4ED0-AC75-D8876611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FA687-A9D7-4ACA-9F56-EE3057E9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4D9B4-7214-4110-8BC0-29B06DA8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7E9F8-9D9C-4C0E-9590-A9B9C08A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D4D5C-95CA-45E6-BE8A-3351454E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0F2D9-3650-475D-A2A2-992E161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6ADF-D215-41DC-A012-37B83799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407D9-063A-40A3-8B51-AA2687A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42B88-6C97-41E6-8510-15BFE02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6D5E6-2ABC-46FE-8934-144894C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9A820-DE67-4EB6-B062-CA196896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A3F-8C5E-4806-B3B6-B1FF5A0D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A0A5-E93D-4BE0-8C29-B1C790AA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C6367-46B0-4A0A-BB8A-391BD388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7539D-DB33-4931-B6EC-54D17DA6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DC9DA-9478-46C3-BC18-4AED44B4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7185-8EF1-4CD3-B7C3-A1103FD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129A3-E860-4D6F-B613-A85E17A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26169-F1B3-445A-AE12-847E34BE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96348-8507-43E3-AC31-BBCCFBA1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93ED0-C90A-4ACB-AF76-9B8F00FD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54A6C-1D36-4D33-A44D-81F70C8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76DF-6918-4741-BEFE-AD1B404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ADBA6-F51C-4183-9F99-C069EBD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63BFA-45F2-441F-A998-D5EA688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B80DF-E566-4AB8-A862-E0BA606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91EF0-76AC-48ED-A9CB-98910803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76A10-DD05-4A09-819E-338F635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77D27-484E-47BE-933C-17531070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8FC08-F7CC-41FD-B0D6-9EF54C8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51CED-3787-4F9C-8EED-3E7E7899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6CA07-E380-44B0-8817-06828C1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BA02D-3CE4-4A74-A5E7-B06330F2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B287-FAE2-4464-8DDD-57B403C9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84966-E6B7-4C09-B722-ED615237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320F4-95A6-4652-BFAB-0D4EDC2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32AE1-DFB9-40DE-9F13-4A7D3EC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99251-60D7-4DE1-8D01-233F0C1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CCD82-42E5-42A4-A2AC-B24BC73F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B403C-C105-40EE-8A7B-78503CF0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6D9F9-3E71-4C87-BE3C-515740A7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1ECE-2CDA-4C2E-B798-60E7F9AE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E6F3-9EC8-4CDA-824C-CBEAB36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16B-F685-4107-AEA8-56D1A5C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9B31-C19F-4BD5-B15B-F072B6C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7D4-88B9-43D4-B709-29CB9812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7F82-6BB5-4AA5-93AA-F233CFF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BD8-CE9C-41F8-8911-A0F62BA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B860-F0A9-484F-A32D-62E765A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8F1-5D7C-4757-8AA5-4609AC2A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C4DD-52D2-4771-AF64-AE0CD3AF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6952-097C-416A-BA6E-68D4FA8A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942E-6143-4068-BBCD-83865867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3D1A-F4A0-4BE9-A5FB-9A4D291F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BBC9-A87D-47AE-B4AA-7637ED0A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C177-399C-468C-BCA8-F0CBDDA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E5F-120E-4A40-AC86-CD102A9E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9706-BE02-4668-B7D5-6ADC1A6F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ECED-CB1F-48CE-AD91-3679044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9955-10D2-4241-A593-20FA8E3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FA48-C49C-4366-95EA-4C3B1E7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1D81-FCB9-4BE3-9332-9930608B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7FDC-38A5-4EF8-AAED-87B01263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512A-FACC-42B8-94A2-DAB09833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ED39-BD38-43AA-B775-3C79F7B7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DD20-31D7-4FF0-BF16-A41E5A1B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BE21-E3BE-4A44-8B2C-74534C52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151-6998-4AE7-8927-1EE7300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90FB-DDDC-464A-BBE9-8C5234E5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076F-5AB4-4248-B2F2-5FD30AF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285E-A9AC-4DED-B801-99856404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6857-4974-4BBA-965E-4441D53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BB2E-E1AE-4390-97C6-81DF549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CD73-DE5D-4E39-B383-28A76AB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0DEF-985A-410A-BB4E-C2CD778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D55B-0AEC-4663-9890-16CC9C2D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7CB9-5A5C-4594-A214-B1288330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CBC7-918F-4AE6-8387-42D67100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D0B-8E0B-4F60-979A-950005F8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7DAC-DA0C-457D-8F06-4261720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41D4-1F74-470A-865F-011E5EB7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38BA-E4EB-41E3-BEBD-C8F83E5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FE8F7-AD75-4CBC-9AA6-524B5B1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A49C-057F-463A-9E35-3130ABB9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B337-5E67-48C7-8E3D-250EB387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F8BA-A9A5-434F-B2D3-93511B5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0CA9-8B7F-4DCD-85CC-34A5EDD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985F-6BD6-46ED-AAB6-4A733EF9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2F783-7E81-4DAC-B4FF-8099171C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20E-73F4-4D9F-8DC8-72EDBBC6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4E1A-18C4-435F-AFE4-4B794865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2ED1-DC59-43B9-A70C-DF611F0F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3556-E946-40A5-8FDE-7E41986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8092D-3BDA-4D22-9EFA-91F5024B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12CB-5DC3-4505-BEF2-C0DDB2E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ED4E3-1783-4D81-8C17-C57592F4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612F-B627-405E-8D17-478946C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BC84-2663-4D78-9F5E-7D9F02F0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0981A-08EE-4598-99C5-D11B059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05FB1-BBD6-4348-9857-CB8BEE0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184-45F2-4E0F-B23B-483F618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8E7D-5C08-484D-9D6D-A83E95CA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E7D5-F56A-4F15-98AC-3A423DB6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8BE6C-3B72-4087-B731-D41B89B6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8C0A-335D-49F6-ACC5-AC71ECCE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7991-F889-41C4-B09D-669AF5E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9BD9-7571-4C9B-B078-3BD7504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A55D-3333-422F-AAC1-9D2A2D1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6EADC-8AC5-4E16-96ED-F6827E1F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1585-10B5-45E5-8AFC-838F04CC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C9457-B153-47E1-BAFA-42ECE86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EB2-321F-48AC-A3F5-CE6E3FD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9325-105A-4D7D-940B-078AF17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6389-BCAD-48A1-81BE-1FB5053B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8DFE-56C8-4CB8-9AC0-5AD49C75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7E98-6F9D-4931-908D-B0C4A9C5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281D-46F5-459B-86CA-A7649618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F9E5F-9159-4BB8-BCB9-662691CC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3B4D-EF7A-4241-ABCD-3D555A6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089E-046E-4604-9D89-3B3DEB7F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83A8-5A2F-42AE-A87B-64B57E3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7732-D88C-49C2-9B80-99140F8B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BA7-434A-474E-975F-2AC5BBD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370C2-0A8A-44A1-864F-56CF6F82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23C9-1FAB-4064-B2DF-5CC7B51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8B17-819C-4603-9555-D12DE8F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643B-B419-402D-ACD1-691DABA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0B80-A534-439E-AD11-ACC8BC8B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EDEB-CF06-4BA9-8858-86738A42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C150-A74B-43C3-9C58-A17DA35C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C58A0-2A02-4D67-A3FE-6417DDB6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6B61F-839F-4C24-8C09-F67BAC9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DE0BF-DF94-4CEA-9213-D82C4C8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7226-CC44-45CF-A899-0E8D0DFC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BE5-3D5F-4769-8F9B-C58907C6EF8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CE1F-8C76-4BAA-9F98-D1FF1792D67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164-2B8C-4EAF-BF53-61712D1EEE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37C-348A-45B7-BCA5-B4295847D60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6EF1-01AE-4559-A605-A04BA36A7DC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1F8-CCD8-49B3-A516-0C5511F941C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6BF-6DCE-49CB-A9F0-7D17DFCBFF4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FEDA-0B6F-4BAF-BE00-789F44D5F4B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F2F3-4F4D-4303-8266-EDE94ED5E2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70A-A945-467D-A3D3-686B73CEF28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67E-1140-4BBC-B29D-5D5DAEBFD44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C176-0CDC-44F7-B966-13B3A1C098F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itle 1" descr=""/>
          <p:cNvPicPr/>
          <p:nvPr/>
        </p:nvPicPr>
        <p:blipFill>
          <a:blip r:embed="rId1"/>
          <a:stretch/>
        </p:blipFill>
        <p:spPr>
          <a:xfrm>
            <a:off x="1749600" y="152280"/>
            <a:ext cx="5797440" cy="11955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-360" y="2085480"/>
            <a:ext cx="9124920" cy="355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magine a Carb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s the size of a ping pong ball (~3cm diameter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Would a human sk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be bigger or small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How big or small would it be?  (be specific!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Expl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you think thi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63360" y="-493560"/>
            <a:ext cx="1200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16000" y="-341280"/>
            <a:ext cx="1199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368280" y="-189000"/>
            <a:ext cx="1200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ubtitle 2"/>
          <p:cNvSpPr/>
          <p:nvPr/>
        </p:nvSpPr>
        <p:spPr>
          <a:xfrm>
            <a:off x="-19080" y="14144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ize and Scale: Atom vs.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63360" y="-500040"/>
            <a:ext cx="1467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"/>
          <p:cNvSpPr/>
          <p:nvPr/>
        </p:nvSpPr>
        <p:spPr>
          <a:xfrm>
            <a:off x="63360" y="-546120"/>
            <a:ext cx="111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9" descr=""/>
          <p:cNvPicPr/>
          <p:nvPr/>
        </p:nvPicPr>
        <p:blipFill>
          <a:blip r:embed="rId2"/>
          <a:stretch/>
        </p:blipFill>
        <p:spPr>
          <a:xfrm>
            <a:off x="6934320" y="0"/>
            <a:ext cx="2216160" cy="2128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"/>
          <p:cNvPicPr/>
          <p:nvPr/>
        </p:nvPicPr>
        <p:blipFill>
          <a:blip r:embed="rId3"/>
          <a:stretch/>
        </p:blipFill>
        <p:spPr>
          <a:xfrm>
            <a:off x="6248520" y="4746600"/>
            <a:ext cx="2892240" cy="2111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3" descr=""/>
          <p:cNvPicPr/>
          <p:nvPr/>
        </p:nvPicPr>
        <p:blipFill>
          <a:blip r:embed="rId4"/>
          <a:stretch/>
        </p:blipFill>
        <p:spPr>
          <a:xfrm>
            <a:off x="0" y="0"/>
            <a:ext cx="1317600" cy="14479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5"/>
          <a:stretch/>
        </p:blipFill>
        <p:spPr>
          <a:xfrm>
            <a:off x="152280" y="525780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6"/>
          <a:stretch/>
        </p:blipFill>
        <p:spPr>
          <a:xfrm>
            <a:off x="2895480" y="5410080"/>
            <a:ext cx="2586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4"/>
          <p:cNvSpPr/>
          <p:nvPr/>
        </p:nvSpPr>
        <p:spPr>
          <a:xfrm>
            <a:off x="533520" y="380880"/>
            <a:ext cx="82296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om vs. Cell (Size Compari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s are (on average) abou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imes bigger than ato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if a Carbon atom were the size of a ping pong ball, a skin cell would be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miles w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’s the distance from here to the high sch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4"/>
          <p:cNvSpPr/>
          <p:nvPr/>
        </p:nvSpPr>
        <p:spPr>
          <a:xfrm>
            <a:off x="533520" y="380880"/>
            <a:ext cx="8229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om vs. Cell (Size Compari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uman body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40 trillion cel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,000,000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7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om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,000,000,000,000,00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5:27:14Z</dcterms:created>
  <dc:creator>ELemke</dc:creator>
  <dc:description/>
  <dc:language>en-US</dc:language>
  <cp:lastModifiedBy>User</cp:lastModifiedBy>
  <dcterms:modified xsi:type="dcterms:W3CDTF">2013-10-08T13:14:21Z</dcterms:modified>
  <cp:revision>42</cp:revision>
  <dc:subject/>
  <dc:title>Slide 1</dc:title>
</cp:coreProperties>
</file>